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865D-812E-4B42-9CA4-BC74748AB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2E06-8F88-4A0D-9822-7C29AD6AE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B044-B4F2-4F07-9D69-9B084893B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AB49-7C9B-4607-AAE6-D026BADA4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0622-F7A7-4B2A-8A97-131F1CD1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88C3-81CF-4EC3-8A3F-7902B3CE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C669-BA65-4328-A3D9-1201242F3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D9B4-7B30-4E97-A594-95B058F61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A644-50FE-4220-8D6C-1D41D2ADB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8C28-8C53-4F27-BBD3-478F1EBC4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32A3-AD86-423F-8823-6A7308839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8C96-59DB-47A9-8215-70D26685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EFDE-4F14-43CE-A2DD-E9303D2ACB4A}" type="slidenum">
              <a:rPr b="0" lang="en-US" sz="1200" spc="-1" strike="noStrike">
                <a:solidFill>
                  <a:srgbClr val="898989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google.com/imgres?imgurl=http://static.aleksinac.net/files/radijacija.jpg&amp;imgrefurl=http://www.aleksinac.net/%3Fview%3Dlat%26action%3Dnews%26id%3Dodakle-radioaktivni-otpad%26category%3Dblog&amp;usg=__PbqfAhCuQ8tPWNn8eUv90xvbSyo=&amp;h=290&amp;w=300&amp;sz=15&amp;hl=en&amp;start=5&amp;zoom=1&amp;tbnid=vNmNDfoYqJFiXM:&amp;tbnh=112&amp;tbnw=116&amp;ei=7N5tTpzUJNLE4gTl4u3NBA&amp;prev=/search%3Fq%3Dradioaktivnost%26hl%3Den%26gbv%3D2%26tbm%3Disch&amp;itbs=1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13880" y="2143080"/>
            <a:ext cx="7815240" cy="21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Фармакологија и токсикологија за стоматологију – 1. недеља наставе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85920" y="4572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898989"/>
                </a:solidFill>
                <a:latin typeface="Comic Sans MS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"/>
          <p:cNvSpPr/>
          <p:nvPr/>
        </p:nvSpPr>
        <p:spPr>
          <a:xfrm>
            <a:off x="1000080" y="2286000"/>
            <a:ext cx="7358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цептор премошћава липидни слој мембране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ако да поседује два функционална дела: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један са спољашње стране мембране з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ји се везују лекови (или ендоген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упстанце) и други са унутрашње стран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ји функционише као ензи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2"/>
          <p:cNvSpPr/>
          <p:nvPr/>
        </p:nvSpPr>
        <p:spPr>
          <a:xfrm>
            <a:off x="822960" y="1000080"/>
            <a:ext cx="72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Рецептори</a:t>
            </a:r>
            <a:r>
              <a:rPr b="1" lang="sr-C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трансмембрански ензи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"/>
          <p:cNvSpPr/>
          <p:nvPr/>
        </p:nvSpPr>
        <p:spPr>
          <a:xfrm>
            <a:off x="1071720" y="1857240"/>
            <a:ext cx="7143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цептори везани за Г-протеине су веом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ројни. Ту спадај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адренергички </a:t>
            </a:r>
            <a:r>
              <a:rPr b="1" lang="en-US" sz="2400" spc="-1" strike="noStrike">
                <a:solidFill>
                  <a:srgbClr val="c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 и </a:t>
            </a:r>
            <a:r>
              <a:rPr b="1" lang="en-US" sz="2400" spc="-1" strike="noStrike">
                <a:solidFill>
                  <a:srgbClr val="c00000"/>
                </a:solidFill>
                <a:latin typeface="Symbol"/>
                <a:ea typeface="Symbol"/>
              </a:rPr>
              <a:t>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 рецептор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мускарински рецептори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допамински рецептор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 многи друг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ни се структурно карактеришу тиме што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њихов пептидни ланац седам пут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олази с краја на крај ћелијск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ембра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1705680" y="785880"/>
            <a:ext cx="629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Рецептори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везани за Г-проте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"/>
          <p:cNvSpPr/>
          <p:nvPr/>
        </p:nvSpPr>
        <p:spPr>
          <a:xfrm>
            <a:off x="785880" y="2000160"/>
            <a:ext cx="7358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 интраћелијске рецепторе (неки од њих су у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цитоплазми а неки у једру) могу да с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вежу само супстанце које су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липосолубилне, тј. које могу слободно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да дифундују кроз липидни слој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ембране ћелије. То су пре свег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стероидни хормон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гликокортикоиди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естрогени, андрогени, прогестерон),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хормони тироиде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липосолубилни витамини А и Д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"/>
          <p:cNvSpPr/>
          <p:nvPr/>
        </p:nvSpPr>
        <p:spPr>
          <a:xfrm>
            <a:off x="1910520" y="857160"/>
            <a:ext cx="514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Интраћелијски рецепто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"/>
          <p:cNvSpPr/>
          <p:nvPr/>
        </p:nvSpPr>
        <p:spPr>
          <a:xfrm>
            <a:off x="571680" y="855720"/>
            <a:ext cx="80722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Ефекат неког лека на организам ће бити утолико већи уколико је он присутан у већој мери у близини места свог дејства (најчешће су то рецептори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што лекови до свог места деловања у ткиву доспевају из крви пацијента, они ће на месту свог деловања бити више присутни уколико им је концентрација у крви виша; наравно, концентрација лека у крви ће бити виша уколико је доза лека већа, тј. уколико је пацијент узео већу количину лека. То значи да је ефекат лека у организму утолико већи уколико је доза лека већа, односно уколико је концентрација у крви већ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ваква законитост се назива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дозна зависност ефект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и ми на њој базирамо одређивање потребне дозе лека за сваког пацијен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"/>
          <p:cNvSpPr/>
          <p:nvPr/>
        </p:nvSpPr>
        <p:spPr>
          <a:xfrm>
            <a:off x="1527840" y="287280"/>
            <a:ext cx="627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ДНОС ДОЗЕ И ЕФЕКТА Л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400" spc="-1" strike="noStrike">
                <a:solidFill>
                  <a:srgbClr val="000000"/>
                </a:solidFill>
                <a:latin typeface="Comic Sans MS"/>
              </a:rPr>
              <a:t>Терапијски индекс и терапијска ширин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аспон између минималне дозе лека која изазива повољни ефекат у организму и минималне дозе лека која изазива токсични ефекат називамо терапијска ширина лека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ерапијски индекс је однос дозе лека која код 50% болесника изазива токсични ефекат (TD50) и дозе лека која код 50% болесника изазива жељени ефекат (ED50)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004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Вежбе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1"/>
          <p:cNvSpPr/>
          <p:nvPr/>
        </p:nvSpPr>
        <p:spPr>
          <a:xfrm>
            <a:off x="785880" y="2071800"/>
            <a:ext cx="7715160" cy="38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Л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екови могу бити синтетског, биљног,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животињског или минерално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</a:rPr>
              <a:t>порекл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Биљно порекло – дигокс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Животињско порекло – тирокс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Минерално порекло – бела г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интетски лек - метопрол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"/>
          <p:cNvSpPr/>
          <p:nvPr/>
        </p:nvSpPr>
        <p:spPr>
          <a:xfrm>
            <a:off x="1861560" y="785880"/>
            <a:ext cx="570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ПОДЕЛА ЛЕКОВА ПО ПОРЕКЛ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285840" y="928800"/>
            <a:ext cx="83581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1. Лековити препарати </a:t>
            </a:r>
            <a:r>
              <a:rPr b="1" i="1" lang="it-IT" sz="2800" spc="-1" strike="noStrike">
                <a:solidFill>
                  <a:srgbClr val="c00000"/>
                </a:solidFill>
                <a:latin typeface="Comic Sans MS"/>
              </a:rPr>
              <a:t>врло јаког</a:t>
            </a:r>
            <a:r>
              <a:rPr b="1" lang="it-IT" sz="2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дејства (</a:t>
            </a:r>
            <a:r>
              <a:rPr b="1" lang="it-IT" sz="2800" spc="-1" strike="noStrike">
                <a:solidFill>
                  <a:srgbClr val="c00000"/>
                </a:solidFill>
                <a:latin typeface="Comic Sans MS"/>
              </a:rPr>
              <a:t>Remedia claudenda</a:t>
            </a:r>
            <a:r>
              <a:rPr b="1" lang="it-IT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it-IT" sz="2800" spc="-1" strike="noStrike">
                <a:solidFill>
                  <a:srgbClr val="c00000"/>
                </a:solidFill>
                <a:latin typeface="Comic Sans MS"/>
              </a:rPr>
              <a:t>Venena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= отров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Супстанце које спадају у ову групу се морају чувати у апотеци одвојено од осталих лекова и под кључе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Посуде у којима се ови лекови чувају морају бити означене именом дотичног лека исписаним белим словима на црној подлози и знаком двоструког крста (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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"/>
          <p:cNvSpPr/>
          <p:nvPr/>
        </p:nvSpPr>
        <p:spPr>
          <a:xfrm>
            <a:off x="1143000" y="1643040"/>
            <a:ext cx="7215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2. Лековити препарати </a:t>
            </a:r>
            <a:r>
              <a:rPr b="1" i="1" lang="it-IT" sz="2800" spc="-1" strike="noStrike">
                <a:solidFill>
                  <a:srgbClr val="c00000"/>
                </a:solidFill>
                <a:latin typeface="Comic Sans MS"/>
              </a:rPr>
              <a:t>јаког</a:t>
            </a:r>
            <a:r>
              <a:rPr b="0" lang="it-IT" sz="2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дејства (</a:t>
            </a:r>
            <a:r>
              <a:rPr b="1" lang="it-IT" sz="2800" spc="-1" strike="noStrike">
                <a:solidFill>
                  <a:srgbClr val="c00000"/>
                </a:solidFill>
                <a:latin typeface="Comic Sans MS"/>
              </a:rPr>
              <a:t>Remedia separanda</a:t>
            </a:r>
            <a:r>
              <a:rPr b="0" lang="it-IT" sz="2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= одвојени леков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Лекови из ове групе се не морај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закључавати у апотеци, већ је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довољно само да се чувају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одвојено од других лекова.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Означавају се једним крстом (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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1"/>
          <p:cNvSpPr/>
          <p:nvPr/>
        </p:nvSpPr>
        <p:spPr>
          <a:xfrm>
            <a:off x="428760" y="714240"/>
            <a:ext cx="82864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Опојне дрог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појне дроге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у лековити препарати кој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спољавају снажно дејство на психичке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функције човека. Опојне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роге се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орају чувати под кључем, у посебној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осторији која је такође закључа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суде са опојним дрогама се означавају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 исти начин као лекови врло јаког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л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јаког дејства, с тим што се додаје и знак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воструког параграфа (§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7120" y="2785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000000"/>
                </a:solidFill>
                <a:latin typeface="Comic Sans MS"/>
              </a:rPr>
              <a:t>Предавања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714240" y="801000"/>
            <a:ext cx="735804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4. </a:t>
            </a:r>
            <a:r>
              <a:rPr b="1" lang="sv-SE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Радиоактивни леков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Радиоактивни лекови 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е морају чуват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кључани, у посебним оловним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кутијама које апсорбују зрачење. Означавају се црвено обојеним знаком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sv-SE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за радиоактивност на жутом пољу: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http://t1.gstatic.com/images?q=tbn:ANd9GcR2Rcsxv_fGT2IKfKbz-GK0zI0jDFZL6lNIFBuKxytASfr5rdKhf-Fqpb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0280" y="4433760"/>
            <a:ext cx="17146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571680" y="1159560"/>
            <a:ext cx="80722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5.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Тригониц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Тригониц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су супстанце које смањују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психомоторну способност болесника.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Називају се тригоници зато што се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означавају црвеним троуглом на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белом пољ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3071880" y="4572000"/>
            <a:ext cx="2071800" cy="17146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Isosceles Triangle 4"/>
          <p:cNvSpPr/>
          <p:nvPr/>
        </p:nvSpPr>
        <p:spPr>
          <a:xfrm>
            <a:off x="3286080" y="4857840"/>
            <a:ext cx="1643040" cy="1071360"/>
          </a:xfrm>
          <a:prstGeom prst="triangle">
            <a:avLst>
              <a:gd name="adj" fmla="val 50000"/>
            </a:avLst>
          </a:prstGeom>
          <a:noFill/>
          <a:ln w="5724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500040" y="1357200"/>
            <a:ext cx="8143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Листу лекова, са максимално дозвољеним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дозама, који се могу купити без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рецепта, утврђује својим актом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Министарство здравља или вла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Такве лекове називамо </a:t>
            </a:r>
            <a:r>
              <a:rPr b="1" lang="it-IT" sz="2800" spc="-1" strike="noStrike" u="sng">
                <a:solidFill>
                  <a:srgbClr val="c00000"/>
                </a:solidFill>
                <a:uFillTx/>
                <a:latin typeface="Comic Sans MS"/>
              </a:rPr>
              <a:t>OTC препаратима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што је скраћеница њиховог назива у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англо-саксонским земљама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it-IT" sz="2800" spc="-1" strike="noStrike">
                <a:solidFill>
                  <a:srgbClr val="c00000"/>
                </a:solidFill>
                <a:latin typeface="Comic Sans MS"/>
              </a:rPr>
              <a:t>O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ver </a:t>
            </a:r>
            <a:r>
              <a:rPr b="1" lang="it-IT" sz="2800" spc="-1" strike="noStrike">
                <a:solidFill>
                  <a:srgbClr val="c00000"/>
                </a:solidFill>
                <a:latin typeface="Comic Sans MS"/>
              </a:rPr>
              <a:t>T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he </a:t>
            </a:r>
            <a:r>
              <a:rPr b="1" lang="it-IT" sz="2800" spc="-1" strike="noStrike">
                <a:solidFill>
                  <a:srgbClr val="c00000"/>
                </a:solidFill>
                <a:latin typeface="Comic Sans MS"/>
              </a:rPr>
              <a:t>C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ounter лекови (лекови кој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се издају “преко касе”, тј. за новац, а без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рецепта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"/>
          <p:cNvSpPr/>
          <p:nvPr/>
        </p:nvSpPr>
        <p:spPr>
          <a:xfrm>
            <a:off x="214200" y="2071800"/>
            <a:ext cx="8715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Рецепт је писано упутство на латинском језику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за справљање и издавање лека које лекар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шаље апотекару. Пошто од рецепта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завис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шта ће апотекар издати болеснику и какво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упутство за примену ће му дати, рецепт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мора бити написан </a:t>
            </a:r>
            <a:r>
              <a:rPr b="1" i="1" lang="it-IT" sz="2800" spc="-1" strike="noStrike">
                <a:solidFill>
                  <a:srgbClr val="c00000"/>
                </a:solidFill>
                <a:latin typeface="Comic Sans MS"/>
              </a:rPr>
              <a:t>прецизно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(према свим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важећим правилима) и</a:t>
            </a:r>
            <a:r>
              <a:rPr b="1" i="1" lang="it-IT" sz="2800" spc="-1" strike="noStrike">
                <a:solidFill>
                  <a:srgbClr val="c00000"/>
                </a:solidFill>
                <a:latin typeface="Comic Sans MS"/>
              </a:rPr>
              <a:t>читко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3707640" y="857160"/>
            <a:ext cx="15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РЕЦЕП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1"/>
          <p:cNvSpPr/>
          <p:nvPr/>
        </p:nvSpPr>
        <p:spPr>
          <a:xfrm>
            <a:off x="500040" y="1500120"/>
            <a:ext cx="82152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Назив рецепт потиче од латинске реч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it-IT" sz="2800" spc="-1" strike="noStrike">
                <a:solidFill>
                  <a:srgbClr val="c00000"/>
                </a:solidFill>
                <a:latin typeface="Comic Sans MS"/>
              </a:rPr>
              <a:t>praeceptum</a:t>
            </a:r>
            <a:r>
              <a:rPr b="0" lang="it-IT" sz="28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што значи пропис. Само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лекови слабог дејства се могу издат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у апотеци без лекарског рецепта; св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остали лекови се могу издати </a:t>
            </a:r>
            <a:r>
              <a:rPr b="1" i="1" lang="it-IT" sz="2800" spc="-1" strike="noStrike">
                <a:solidFill>
                  <a:srgbClr val="c00000"/>
                </a:solidFill>
                <a:latin typeface="Comic Sans MS"/>
              </a:rPr>
              <a:t>само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уз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рецеп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Рецепт може да напише само лекар (али 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стоматолог или ветеринар) који је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положио државни испит (дакле има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право да обавља праксу на териториј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Србије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3707640" y="714240"/>
            <a:ext cx="15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РЕЦЕП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2428920" y="1071720"/>
            <a:ext cx="4572000" cy="49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ДЕЛОВИ РЕЦЕП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INSCRIP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INVOC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ORDINA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SUBSCRIPT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SIGN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mic Sans MS"/>
              </a:rPr>
              <a:t>NOMEN MEDI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571680" y="2158200"/>
            <a:ext cx="7858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tisal tablettae          0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scatulam originalem N</a:t>
            </a:r>
            <a:r>
              <a:rPr b="0" lang="pt-BR" sz="3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 (una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. Четири пута дневно размути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у таблету у чаши воде 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pt-B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ити је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"/>
          <p:cNvSpPr/>
          <p:nvPr/>
        </p:nvSpPr>
        <p:spPr>
          <a:xfrm>
            <a:off x="992160" y="857160"/>
            <a:ext cx="737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ПРОПИСИВАЊЕ ГОТОВИХ ЛЕ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"/>
          <p:cNvSpPr/>
          <p:nvPr/>
        </p:nvSpPr>
        <p:spPr>
          <a:xfrm>
            <a:off x="817200" y="857160"/>
            <a:ext cx="7178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ПРОПИСИВАЊЕ МАГИСТРАЛН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ЛЕК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"/>
          <p:cNvSpPr/>
          <p:nvPr/>
        </p:nvSpPr>
        <p:spPr>
          <a:xfrm>
            <a:off x="285840" y="2343240"/>
            <a:ext cx="8572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smuti subgallatis              10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lci                            ad   100,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sce fiat pulv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 ad scatul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. Споља, посути оболела места три пу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дневно.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285840" y="1071720"/>
            <a:ext cx="85010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c00000"/>
                </a:solidFill>
                <a:latin typeface="Comic Sans MS"/>
              </a:rPr>
              <a:t>Фармакологија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је наука која проу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ч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ава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интеракције хемијских су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станци с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живим организмом. Сачињавају је д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велика дела: фармакодинамика 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фармакокинет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Фармакодинамика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проучава дејства лека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на организам, а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фармакокинетика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удбину лека у организму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(апсорпциј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дистрибуцију, метаболизам и екскрецију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"/>
          <p:cNvSpPr/>
          <p:nvPr/>
        </p:nvSpPr>
        <p:spPr>
          <a:xfrm>
            <a:off x="642960" y="1071720"/>
            <a:ext cx="78580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јвећи број лекова делује тако што се у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рганизму везује за специфично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место које називамо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рецептор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ецептор је увек макромолекул, најчешће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отеин, за кога се у физиолошким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словима везује нека природна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ендогена супстанца, изазивајући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ромене у облику рецептора (тзв.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конформационе промене). Такву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упстанцу називамо </a:t>
            </a: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ендогени лиганд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"/>
          <p:cNvSpPr/>
          <p:nvPr/>
        </p:nvSpPr>
        <p:spPr>
          <a:xfrm>
            <a:off x="500040" y="1000080"/>
            <a:ext cx="83581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ко лек изазива промене облика рецептора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сличне променама које настају после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езивања ендогеног лиган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тј. рецептор пређе у активно стање)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такав лек називамо 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Comic Sans MS"/>
              </a:rPr>
              <a:t>агонистом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ко пак лек после везивања за рецептор не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зазове никакве промене обли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тј. рецептор остаје у инактивном стању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већ само омета везивање (а тим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ејство) ендогеног лиганда, такав ле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зивамо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800" spc="-1" strike="noStrike" u="sng">
                <a:solidFill>
                  <a:srgbClr val="c00000"/>
                </a:solidFill>
                <a:uFillTx/>
                <a:latin typeface="Comic Sans MS"/>
              </a:rPr>
              <a:t>антагонистом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Object 2"/>
          <p:cNvGraphicFramePr/>
          <p:nvPr/>
        </p:nvGraphicFramePr>
        <p:xfrm>
          <a:off x="428760" y="428760"/>
          <a:ext cx="8340480" cy="607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428760"/>
                    <a:ext cx="8340480" cy="60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285840" y="1214280"/>
            <a:ext cx="8858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Рецептори за већину лекова и ендогених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упстанци се могу сврстати у неколико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група на основу сличног механизма по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коме функциониш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ошто се сматра да је свака од ових група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настала током еволуције од једног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заједничког претка - могло би се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условно рећи "примитивног рецептора" -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називамо их 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рецепторским фамилијама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"/>
          <p:cNvSpPr/>
          <p:nvPr/>
        </p:nvSpPr>
        <p:spPr>
          <a:xfrm>
            <a:off x="785880" y="1714680"/>
            <a:ext cx="78580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За сада знамо за четири велике фамилије,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тзв. суперфамилиј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рецептори јонски канал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рецептори мембрански ензи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рецептори везани за Г-протеине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1" lang="sr-CS" sz="2800" spc="-1" strike="noStrike">
                <a:solidFill>
                  <a:srgbClr val="c00000"/>
                </a:solidFill>
                <a:latin typeface="Comic Sans MS"/>
              </a:rPr>
              <a:t>интрацелуларни рецептори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785880" y="1357200"/>
            <a:ext cx="7715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цептори који представљају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јонске канал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лазе се у мембрани ћелије и у стању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ировања су затворени. Када се агонист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лек или нека ендогена супстанца) веже за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вакав рецептор, долази до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нформационих промена у њему и настај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твор (канал) кроз који могу да прођу јон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714240" y="4071960"/>
            <a:ext cx="7643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јпознатији рецептори јонски канали су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никотински рецептор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канали за јоне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тријума) и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рецептори за ексцитаторне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аспартат, глутамат) и 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инхибиторн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гама-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минобутерна киселина-ГАБА)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00000"/>
                </a:solidFill>
                <a:latin typeface="Comic Sans MS"/>
              </a:rPr>
              <a:t>аминокиселин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1878840" y="571680"/>
            <a:ext cx="497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Рецептори јонски кана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2T05:40:50Z</dcterms:created>
  <dc:creator> </dc:creator>
  <dc:description/>
  <dc:language>en-US</dc:language>
  <cp:lastModifiedBy>Slobodan Jankovic</cp:lastModifiedBy>
  <dcterms:modified xsi:type="dcterms:W3CDTF">2014-07-12T07:47:03Z</dcterms:modified>
  <cp:revision>40</cp:revision>
  <dc:subject/>
  <dc:title>Slide 1</dc:title>
</cp:coreProperties>
</file>